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2CC0-1B35-4B13-8097-7CE433C08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1EE7-BCAE-42A4-84AA-EDEA3FBA0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196A-5B06-499C-AA46-CD27D11E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C408-63CA-4976-BA0D-0409B106D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D717-A80F-4EF3-956D-2718EE66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5BE1-4839-4952-BE07-A07A06045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38AA-2B35-48D8-BD88-79C6FAEF5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D902-70B4-4D96-95E7-AFC0BF182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565-8CC9-4D3B-A7B3-3F7A2D57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EEE-7805-42AF-93F5-C145F51F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649-550B-4F1E-B1C2-E3055718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387-0359-4DE1-AF8D-C14D5D0F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C10-6F39-4049-A264-230AC568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EBE-CE1C-4BA3-B808-99F278C1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103-8199-47BC-AC21-D40FD906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AE3-3E1F-4FD7-BA88-6E1309FE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BCF-8271-486E-878F-C6D13F5F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688-B437-4C1B-8D6D-138736CA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76F-363B-445A-B75A-A0697E11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2DA-06BE-4E5A-BFEF-D5FD37F9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0A46-DC92-4E8F-90DD-DBD56292A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C64A-27A4-4B18-AFB0-7A2A4EEE8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ПЛАНИРАЊЕ И ПРЕИМПЛАНТАЦИЈСКА ПРИПРЕМА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Предавање бр.0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11 -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Тематске јединице: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Избор пацијента, дијагностичке методе у имплантологији  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Arial"/>
              </a:rPr>
              <a:t>Доц. др</a:t>
            </a:r>
            <a:r>
              <a:rPr b="1" i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1400" spc="-1" strike="noStrike">
                <a:solidFill>
                  <a:srgbClr val="000000"/>
                </a:solidFill>
                <a:latin typeface="Arial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869400" y="6180120"/>
            <a:ext cx="71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Copyright © 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Стандардне дијагностичке мето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320D-7097-4718-9F36-4727EF1C0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588600" y="1854360"/>
            <a:ext cx="294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линич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606600" y="224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лик и међусобни положај резидуалних алвеоларних гребе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C:\Users\Vlada\Desktop\images 4.jpg"/>
          <p:cNvPicPr/>
          <p:nvPr/>
        </p:nvPicPr>
        <p:blipFill>
          <a:blip r:embed="rId1"/>
          <a:stretch/>
        </p:blipFill>
        <p:spPr>
          <a:xfrm>
            <a:off x="403200" y="3219480"/>
            <a:ext cx="3890880" cy="207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C:\Users\Vlada\Desktop\images 7.jpg"/>
          <p:cNvPicPr/>
          <p:nvPr/>
        </p:nvPicPr>
        <p:blipFill>
          <a:blip r:embed="rId2"/>
          <a:stretch/>
        </p:blipFill>
        <p:spPr>
          <a:xfrm>
            <a:off x="5307120" y="1457280"/>
            <a:ext cx="3101760" cy="24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C:\Users\Vlada\Desktop\rel.jpg"/>
          <p:cNvPicPr/>
          <p:nvPr/>
        </p:nvPicPr>
        <p:blipFill>
          <a:blip r:embed="rId3"/>
          <a:stretch/>
        </p:blipFill>
        <p:spPr>
          <a:xfrm>
            <a:off x="4564080" y="4059360"/>
            <a:ext cx="408456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4691-FBF2-4F82-A841-E9B531721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5520" y="15840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Стандардне дијагностичке мето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69800" y="1720800"/>
            <a:ext cx="812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линич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560160" y="22161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во оралне хигиј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C:\Users\Vlada\Desktop\hig.jpg"/>
          <p:cNvPicPr/>
          <p:nvPr/>
        </p:nvPicPr>
        <p:blipFill>
          <a:blip r:embed="rId1"/>
          <a:stretch/>
        </p:blipFill>
        <p:spPr>
          <a:xfrm>
            <a:off x="0" y="2633760"/>
            <a:ext cx="5078520" cy="285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D:\Users\Korisnik\Desktop\1-dental-tartar-dr-armen-taranyan--science-photo-library-canvas-print.jpg"/>
          <p:cNvPicPr/>
          <p:nvPr/>
        </p:nvPicPr>
        <p:blipFill>
          <a:blip r:embed="rId2"/>
          <a:stretch/>
        </p:blipFill>
        <p:spPr>
          <a:xfrm>
            <a:off x="5110200" y="2670120"/>
            <a:ext cx="3813120" cy="29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2643-9D44-4FF0-9BAF-94E450118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Стандардне дијагностичке мето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57120" y="1693800"/>
            <a:ext cx="45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ње постојећих протетских надокн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09320" y="128736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линич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C:\Users\Vlada\Desktop\prot.jpg"/>
          <p:cNvPicPr/>
          <p:nvPr/>
        </p:nvPicPr>
        <p:blipFill>
          <a:blip r:embed="rId1"/>
          <a:stretch/>
        </p:blipFill>
        <p:spPr>
          <a:xfrm>
            <a:off x="1006560" y="2044800"/>
            <a:ext cx="2968560" cy="222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C:\Users\Vlada\Desktop\pro.jpg"/>
          <p:cNvPicPr/>
          <p:nvPr/>
        </p:nvPicPr>
        <p:blipFill>
          <a:blip r:embed="rId2"/>
          <a:stretch/>
        </p:blipFill>
        <p:spPr>
          <a:xfrm>
            <a:off x="4513320" y="2004840"/>
            <a:ext cx="3002040" cy="2248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D:\Users\Korisnik\Desktop\download (1).jpg"/>
          <p:cNvPicPr/>
          <p:nvPr/>
        </p:nvPicPr>
        <p:blipFill>
          <a:blip r:embed="rId3"/>
          <a:stretch/>
        </p:blipFill>
        <p:spPr>
          <a:xfrm>
            <a:off x="4516560" y="4308480"/>
            <a:ext cx="3089160" cy="2147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D:\Users\Korisnik\Desktop\unnamed.jpg"/>
          <p:cNvPicPr/>
          <p:nvPr/>
        </p:nvPicPr>
        <p:blipFill>
          <a:blip r:embed="rId4"/>
          <a:stretch/>
        </p:blipFill>
        <p:spPr>
          <a:xfrm>
            <a:off x="741240" y="4322880"/>
            <a:ext cx="3649680" cy="20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Стандардне дијагностичке мето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4C1C-31F6-4A25-BAEA-9125BBEB6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469800" y="1386000"/>
            <a:ext cx="8217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12280" y="146196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линич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57280" y="18795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ање краниомандибуларних дисфун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C:\Users\Vlada\Desktop\slike predavanja preimplantacijska priprema i planiranje\pal.jpg"/>
          <p:cNvPicPr/>
          <p:nvPr/>
        </p:nvPicPr>
        <p:blipFill>
          <a:blip r:embed="rId1"/>
          <a:stretch/>
        </p:blipFill>
        <p:spPr>
          <a:xfrm>
            <a:off x="4435560" y="2525760"/>
            <a:ext cx="4376520" cy="1652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C:\Users\Vlada\Desktop\slike predavanja preimplantacijska priprema i planiranje\papl.jpg"/>
          <p:cNvPicPr/>
          <p:nvPr/>
        </p:nvPicPr>
        <p:blipFill>
          <a:blip r:embed="rId2"/>
          <a:stretch/>
        </p:blipFill>
        <p:spPr>
          <a:xfrm>
            <a:off x="4435560" y="4295880"/>
            <a:ext cx="4346640" cy="1557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https://www.researchgate.net/publication/330947909/figure/fig2/AS:723864275390464@1549594100086/Mandibular-deflection-during-mouth-opening-associated-with-disc-displacement-without.ppm"/>
          <p:cNvPicPr/>
          <p:nvPr/>
        </p:nvPicPr>
        <p:blipFill>
          <a:blip r:embed="rId3"/>
          <a:stretch/>
        </p:blipFill>
        <p:spPr>
          <a:xfrm>
            <a:off x="969840" y="2498760"/>
            <a:ext cx="257184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6F06-30EA-4249-8899-4F0F55DCB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Стандардне дијагностичке мето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79520" y="1943280"/>
            <a:ext cx="81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ина припојне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отип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04640" y="1471680"/>
            <a:ext cx="81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линич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C:\Users\Vlada\Desktop\thin.jpg"/>
          <p:cNvPicPr/>
          <p:nvPr/>
        </p:nvPicPr>
        <p:blipFill>
          <a:blip r:embed="rId1"/>
          <a:stretch/>
        </p:blipFill>
        <p:spPr>
          <a:xfrm>
            <a:off x="4629240" y="3117960"/>
            <a:ext cx="3686040" cy="2562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Vlada\Desktop\thick.jpg"/>
          <p:cNvPicPr/>
          <p:nvPr/>
        </p:nvPicPr>
        <p:blipFill>
          <a:blip r:embed="rId2"/>
          <a:stretch/>
        </p:blipFill>
        <p:spPr>
          <a:xfrm>
            <a:off x="527040" y="3173400"/>
            <a:ext cx="376092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Наменске дијагностичке мето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E868-268E-4EA5-B370-5A90DFC50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2800" y="1587600"/>
            <a:ext cx="8193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графска ана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лиза студијских мо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вантитативна анализа коштаног фунда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рфолошка анализа коштаног фунда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валитативна анализа коштаног фунда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рење дебљине мук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охемијске анализе крви и у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Навигациони сист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Наменске дијагностичке мето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DB04-5CD7-4B52-B7A9-9C88964D9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71600" y="168264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Радиографска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венционална радиографиј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троалвеоларни, О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Cone Beam CT (CB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пјутерски системи за обраду радиограф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ат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Радиографска анали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458720"/>
            <a:ext cx="8229600" cy="4572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2BAC-823A-41EF-85BF-73CD80759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514440" y="2114640"/>
            <a:ext cx="7505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ндген дијагностичке методе се кори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имплантацијској дијагнос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ом хируршког поступ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редовне контр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 постоперативних комплик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Радиографска анали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5D30-9C62-4A0E-92E9-EFE39BCC5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433440" y="1757520"/>
            <a:ext cx="47480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етроалвеоларни сни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едоста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а величина филма, увећање 5-10%, релативне информације о грађи и густини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имена у имплантологиј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контролу оперативног поступка и праћење успеха терап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C:\Users\Vlada\Desktop\retr.jpg"/>
          <p:cNvPicPr/>
          <p:nvPr/>
        </p:nvPicPr>
        <p:blipFill>
          <a:blip r:embed="rId1"/>
          <a:stretch/>
        </p:blipFill>
        <p:spPr>
          <a:xfrm>
            <a:off x="5616720" y="1881360"/>
            <a:ext cx="2270160" cy="15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C:\Users\Vlada\Desktop\retroalv.jpg"/>
          <p:cNvPicPr/>
          <p:nvPr/>
        </p:nvPicPr>
        <p:blipFill>
          <a:blip r:embed="rId2"/>
          <a:stretch/>
        </p:blipFill>
        <p:spPr>
          <a:xfrm>
            <a:off x="5005440" y="3938760"/>
            <a:ext cx="1342800" cy="2180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C:\Users\Vlada\Desktop\implant.jpg"/>
          <p:cNvPicPr/>
          <p:nvPr/>
        </p:nvPicPr>
        <p:blipFill>
          <a:blip r:embed="rId3"/>
          <a:stretch/>
        </p:blipFill>
        <p:spPr>
          <a:xfrm>
            <a:off x="6791400" y="3895560"/>
            <a:ext cx="147636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Радиографска анали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45BA-6EAE-4DEA-8981-EE8B5DBA8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493560" y="1444680"/>
            <a:ext cx="81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415800" y="1709640"/>
            <a:ext cx="82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ртопантомограф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дна метода рендген дијагностике у планирању и припреми имплант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477720" y="2981160"/>
            <a:ext cx="810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дности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казује обе комплетне вилице, могућа анализа вертикалне димензије кости, доступна и релативно јефтина 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едоста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нема информација о буко-лингвалној димензији, ограничена дебљина слоја снимања на 10-12 mm у бочној регији и на 6 mm у фронту, мезиодисталне димензије нису потпуно реалне, увећање, не пружа информације о квалитету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Планира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Date Placeholder 2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BDF2-3631-4F08-A050-4DCFF9F8D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42800" y="1279440"/>
            <a:ext cx="8193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пешност имплантолошке терапије подразумева следе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минисати контраиндик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рдити детаљан план терап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ти одговарајућу прогнозу успешности терап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D:\Users\Korisnik\Desktop\unnamed.jpg"/>
          <p:cNvPicPr/>
          <p:nvPr/>
        </p:nvPicPr>
        <p:blipFill>
          <a:blip r:embed="rId1"/>
          <a:stretch/>
        </p:blipFill>
        <p:spPr>
          <a:xfrm>
            <a:off x="692280" y="4156200"/>
            <a:ext cx="3492360" cy="2182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D:\Users\Korisnik\Desktop\images.jpg"/>
          <p:cNvPicPr/>
          <p:nvPr/>
        </p:nvPicPr>
        <p:blipFill>
          <a:blip r:embed="rId2"/>
          <a:stretch/>
        </p:blipFill>
        <p:spPr>
          <a:xfrm>
            <a:off x="4545000" y="4199040"/>
            <a:ext cx="32274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Радиографска анали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7B1F-CB90-4510-ADE4-E21BA2E04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69800" y="146844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493200" y="162576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ртопантомограф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C:\Users\Vlada\Desktop\opg1.jpg"/>
          <p:cNvPicPr/>
          <p:nvPr/>
        </p:nvPicPr>
        <p:blipFill>
          <a:blip r:embed="rId1"/>
          <a:stretch/>
        </p:blipFill>
        <p:spPr>
          <a:xfrm>
            <a:off x="573120" y="2255760"/>
            <a:ext cx="2819520" cy="2067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:\Users\Vlada\Desktop\opg.jpg"/>
          <p:cNvPicPr/>
          <p:nvPr/>
        </p:nvPicPr>
        <p:blipFill>
          <a:blip r:embed="rId2"/>
          <a:stretch/>
        </p:blipFill>
        <p:spPr>
          <a:xfrm>
            <a:off x="3959280" y="2260440"/>
            <a:ext cx="4848120" cy="2000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D:\Users\Korisnik\Desktop\AMS-7-237-g010.jpg"/>
          <p:cNvPicPr/>
          <p:nvPr/>
        </p:nvPicPr>
        <p:blipFill>
          <a:blip r:embed="rId3"/>
          <a:stretch/>
        </p:blipFill>
        <p:spPr>
          <a:xfrm>
            <a:off x="550800" y="4376880"/>
            <a:ext cx="2801880" cy="2009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D:\Users\Korisnik\Desktop\Fig-01-OPG-edentulous.png"/>
          <p:cNvPicPr/>
          <p:nvPr/>
        </p:nvPicPr>
        <p:blipFill>
          <a:blip r:embed="rId4"/>
          <a:stretch/>
        </p:blipFill>
        <p:spPr>
          <a:xfrm>
            <a:off x="3949560" y="4329000"/>
            <a:ext cx="486576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Радиографска анали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E15E-B11E-46C8-8E12-E17FD3F9F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498600" y="1549440"/>
            <a:ext cx="8127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ртопантомографија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oss- section</a:t>
            </a:r>
            <a:r>
              <a:rPr b="0" i="1" lang="sr-R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сек вилица у трансверзалним равнима, анализа буко – оралне димен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C:\Users\Vlada\Desktop\cross sect.jpg"/>
          <p:cNvPicPr/>
          <p:nvPr/>
        </p:nvPicPr>
        <p:blipFill>
          <a:blip r:embed="rId1"/>
          <a:stretch/>
        </p:blipFill>
        <p:spPr>
          <a:xfrm>
            <a:off x="1104840" y="2619360"/>
            <a:ext cx="61722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Радиографска анали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582C-D091-42CE-8543-BBC886E7D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480960" y="1511280"/>
            <a:ext cx="805356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Cone Beam CT (CB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Предности: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цизна квантитативна анализа кости у 3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алитативна анализа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имак реалних дим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ецизна локализација анатомских 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D реконстру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Радиографска анали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504800"/>
            <a:ext cx="83250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Cone Beam CT (CB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достац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слабије приказивање мекоткивних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некада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овољно прецизна 3D реконстру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72B9-AEEF-4BBB-8718-2C408A3A1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Радиографска анали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0B18-6D86-454A-BD90-D764FCA65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596520" y="17017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Cone Beam CT (CB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C:\Users\Vlada\Desktop\cbct.jpg"/>
          <p:cNvPicPr/>
          <p:nvPr/>
        </p:nvPicPr>
        <p:blipFill>
          <a:blip r:embed="rId1"/>
          <a:stretch/>
        </p:blipFill>
        <p:spPr>
          <a:xfrm>
            <a:off x="477720" y="2408400"/>
            <a:ext cx="4178520" cy="3022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Vlada\Desktop\3d.jpg"/>
          <p:cNvPicPr/>
          <p:nvPr/>
        </p:nvPicPr>
        <p:blipFill>
          <a:blip r:embed="rId2"/>
          <a:stretch/>
        </p:blipFill>
        <p:spPr>
          <a:xfrm>
            <a:off x="4952880" y="2354400"/>
            <a:ext cx="38782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Радиографска анали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C16D-B17A-4A8C-A623-B6BF4F0AF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596520" y="17017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Cone Beam CT (CB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D:\Users\Korisnik\Desktop\Cross-sectional-cone-beam-CT-CBCT-images-of-an-implant-with-and-without-buccal-marginal.png"/>
          <p:cNvPicPr/>
          <p:nvPr/>
        </p:nvPicPr>
        <p:blipFill>
          <a:blip r:embed="rId1"/>
          <a:stretch/>
        </p:blipFill>
        <p:spPr>
          <a:xfrm>
            <a:off x="182520" y="2343240"/>
            <a:ext cx="4605480" cy="2898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D:\Users\Korisnik\Desktop\unnamed (1).jpg"/>
          <p:cNvPicPr/>
          <p:nvPr/>
        </p:nvPicPr>
        <p:blipFill>
          <a:blip r:embed="rId2"/>
          <a:stretch/>
        </p:blipFill>
        <p:spPr>
          <a:xfrm>
            <a:off x="4863960" y="2355840"/>
            <a:ext cx="4253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4631-54E3-46AF-8AA8-087BE5B24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69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Анализа студијских модел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433440" y="178128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авља се у артикулатору на моделима изливеним од тврдог и супертврдог гипса (тип 3 и 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C:\Users\Vlada\Desktop\studijski modeli.jpg"/>
          <p:cNvPicPr/>
          <p:nvPr/>
        </p:nvPicPr>
        <p:blipFill>
          <a:blip r:embed="rId1"/>
          <a:stretch/>
        </p:blipFill>
        <p:spPr>
          <a:xfrm>
            <a:off x="1752480" y="2671920"/>
            <a:ext cx="483876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Анализа студијских модел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логе студијских мо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лиза М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лиза постојеће оклузалне рав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лиза облика и положаја преостал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лиза односа гингиве и клиничких кру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лиза кретњи до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рада дијагностичког воштаног модела (wax-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рада радиографског и хируршког спли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еђивање положаја имплан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лиза односа дужине имплантата и круне и прелиминарни избор супрастру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рада привремених надок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рада индивидуалне кашике за отис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CF94-A3BB-489A-ABA1-6FA985E28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Квантитативна анализа коштаног фундам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76280" y="171468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тврђују се све три димензије резидуалног алвеоларног гребена: висина, “дебљина” и “дужина” и т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ничким прегледом (инспекција и палпациј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ом студијског модела (нарочито дебљина и дужина греб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диографски (коришћењем фолија са нацртаним имплантати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5675-4F95-426A-A899-315C87461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Морфолошка анализа коштаног фундам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0480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разумева анализу облика (контуре)греб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њују се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нички преглед, анализа студијских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дела, радиографија и 3D реконструк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AEDB-7252-4CE2-9013-2DE1D34A6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:\Users\Vlada\Desktop\3dre.jpg"/>
          <p:cNvPicPr/>
          <p:nvPr/>
        </p:nvPicPr>
        <p:blipFill>
          <a:blip r:embed="rId1"/>
          <a:stretch/>
        </p:blipFill>
        <p:spPr>
          <a:xfrm>
            <a:off x="387360" y="3247920"/>
            <a:ext cx="4048200" cy="2695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D:\Users\Korisnik\Desktop\CBCT_Implant_teeth-mode2.jpg"/>
          <p:cNvPicPr/>
          <p:nvPr/>
        </p:nvPicPr>
        <p:blipFill>
          <a:blip r:embed="rId2"/>
          <a:stretch/>
        </p:blipFill>
        <p:spPr>
          <a:xfrm>
            <a:off x="4489560" y="3201840"/>
            <a:ext cx="40035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D327-CA62-4364-94B2-070286213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22040"/>
            <a:ext cx="865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збор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33440" y="1744560"/>
            <a:ext cx="82296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523800" y="2031840"/>
            <a:ext cx="814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м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нич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менске дијагностичке мет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ормисање пацијента о природи имплантолошког захвата и свим аспектима у вези са њ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Квалитативна анализа коштаног фундам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19040" y="1866600"/>
            <a:ext cx="84391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ља процену квалитета коштаног фунда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ификација  кости од D1-D4 по Mish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јчешће се као орјентационе методе користе радиографске анали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 се користити и дензитометрија (мерење густине к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5131-8065-42E2-8053-1E2217569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Мерење дебљине мук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CDD5-BDEA-4C88-9B15-829F68A3E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495360" y="1876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ши се или помоћу стерилне игле са више убода у пределу претходно анестезиране слузокоже или специјалним инструмент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Users\Vlada\Desktop\soft.jpg"/>
          <p:cNvPicPr/>
          <p:nvPr/>
        </p:nvPicPr>
        <p:blipFill>
          <a:blip r:embed="rId1"/>
          <a:stretch/>
        </p:blipFill>
        <p:spPr>
          <a:xfrm>
            <a:off x="2030400" y="2814480"/>
            <a:ext cx="43131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Навигациони системи у имплантоло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8686-9F6B-48AB-9F1B-24CEDFA2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277920" y="1809720"/>
            <a:ext cx="715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нирање позиције имплантата у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ртуелни 3D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рада хируршких сплин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етски вођена хирур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C:\Users\Vlada\Desktop\3df.jpg"/>
          <p:cNvPicPr/>
          <p:nvPr/>
        </p:nvPicPr>
        <p:blipFill>
          <a:blip r:embed="rId1"/>
          <a:stretch/>
        </p:blipFill>
        <p:spPr>
          <a:xfrm>
            <a:off x="5083200" y="1201680"/>
            <a:ext cx="3825720" cy="2206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C:\Users\Vlada\Desktop\nav.jpg"/>
          <p:cNvPicPr/>
          <p:nvPr/>
        </p:nvPicPr>
        <p:blipFill>
          <a:blip r:embed="rId2"/>
          <a:stretch/>
        </p:blipFill>
        <p:spPr>
          <a:xfrm>
            <a:off x="5064120" y="3503520"/>
            <a:ext cx="3900600" cy="2936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D:\Users\Korisnik\Desktop\116432-11304267.jpg"/>
          <p:cNvPicPr/>
          <p:nvPr/>
        </p:nvPicPr>
        <p:blipFill>
          <a:blip r:embed="rId3"/>
          <a:stretch/>
        </p:blipFill>
        <p:spPr>
          <a:xfrm>
            <a:off x="623880" y="3575160"/>
            <a:ext cx="42130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22400"/>
            <a:ext cx="8261280" cy="13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Arial"/>
              </a:rPr>
              <a:t>Информисање пацијента о природи имплантолошког захват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2581-9164-4920-8B99-EAFE140F7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399960" y="1279440"/>
            <a:ext cx="8169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Објаснити пацијенту да је интервенција потпуно безбол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ручну терминологију прилагодити народном јези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знати пацијентове мотиве и очекивања од имплантолош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Објаснити му реалне могућности терапије имплантат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Упознати пацијента са процедуром имплантације и ризиц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Указати му на значај одржавања оралне хигиј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авезно информисати пацијента и о другим могућностим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тернативним решењ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Дијагностичке методе у имплантоло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66BD-AE7D-4A2A-82F3-AF186A2FE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80960" y="1936800"/>
            <a:ext cx="819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514440" y="2116080"/>
            <a:ext cx="83818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тандардне дијагностичке мет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 анамнеза и клинички преглед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Наменске-специјалне дијагностичке мет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радиографске анализе, квалитативна, морфолошка 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вантитативна анализа коштаног фундамента, анализ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удијских модела, мерење дебљине мукозе, биохемијс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лизе крви и ур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0920" y="-36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Стандардне дијагностичке мето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CC3A-515F-4A70-AD01-51A06ACF9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44600" y="1757520"/>
            <a:ext cx="59752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намн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године старости, подаци о претходним хируршким интервенцијама на коштаном и меком ткиву усне дупље, присуство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апсолутне контраиндикације за уградњу имплантата – одмах искључити пацијента из процед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релативне контраиндикације – ако се болест преведе у контролисано стање могућа имплант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C:\Users\Vlada\Desktop\images.jpg"/>
          <p:cNvPicPr/>
          <p:nvPr/>
        </p:nvPicPr>
        <p:blipFill>
          <a:blip r:embed="rId1"/>
          <a:stretch/>
        </p:blipFill>
        <p:spPr>
          <a:xfrm>
            <a:off x="6075360" y="1755720"/>
            <a:ext cx="2784600" cy="2086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D:\Users\Korisnik\Desktop\download.jpg"/>
          <p:cNvPicPr/>
          <p:nvPr/>
        </p:nvPicPr>
        <p:blipFill>
          <a:blip r:embed="rId2"/>
          <a:stretch/>
        </p:blipFill>
        <p:spPr>
          <a:xfrm>
            <a:off x="6075360" y="3908520"/>
            <a:ext cx="28335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1440" y="122040"/>
            <a:ext cx="814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Стандардне дијагностичке мето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7C37-1AEA-4B88-99D7-3D2C92375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47680" y="1684440"/>
            <a:ext cx="83628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линички прегл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екстраорални и интраорал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(инспекција, палпација, перкусија,аускулт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ратити пажњу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симетриј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оремећаје М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к и међусобни положај резидуалних алвеоларних гребено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ниво оралне хигије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ање постојећих протетских надокн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остојање краниомандибуларних дис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ину припојне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отип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Стандардне дијагностичке мето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CCCB-B8EA-4D3B-B1A5-2DB07F720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61960" y="1417680"/>
            <a:ext cx="30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линички прегл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симет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D:\Users\Korisnik\Desktop\unnamed (1).jpg"/>
          <p:cNvPicPr/>
          <p:nvPr/>
        </p:nvPicPr>
        <p:blipFill>
          <a:blip r:embed="rId1"/>
          <a:stretch/>
        </p:blipFill>
        <p:spPr>
          <a:xfrm>
            <a:off x="0" y="4141800"/>
            <a:ext cx="3728880" cy="2281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D:\Users\Korisnik\Desktop\Case-1-Facial-asymmetry-conditioned-by-right-orbital-zygomatic-and-maxillomandibular.png"/>
          <p:cNvPicPr/>
          <p:nvPr/>
        </p:nvPicPr>
        <p:blipFill>
          <a:blip r:embed="rId2"/>
          <a:srcRect l="0" t="0" r="50689" b="0"/>
          <a:stretch/>
        </p:blipFill>
        <p:spPr>
          <a:xfrm>
            <a:off x="3564000" y="2038320"/>
            <a:ext cx="2933640" cy="378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D:\Users\Korisnik\Desktop\facial-asymmetryphotos-17-638.jpg"/>
          <p:cNvPicPr/>
          <p:nvPr/>
        </p:nvPicPr>
        <p:blipFill>
          <a:blip r:embed="rId3"/>
          <a:srcRect l="57974" t="31190" r="7150" b="5042"/>
          <a:stretch/>
        </p:blipFill>
        <p:spPr>
          <a:xfrm>
            <a:off x="6262560" y="1246320"/>
            <a:ext cx="2881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898E-FB96-40B7-9A75-B769E26C2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Стандардне дијагностичке мето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80960" y="1660680"/>
            <a:ext cx="816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линич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емећај М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C:\Users\Vlada\Desktop\mvo.jpg"/>
          <p:cNvPicPr/>
          <p:nvPr/>
        </p:nvPicPr>
        <p:blipFill>
          <a:blip r:embed="rId1"/>
          <a:stretch/>
        </p:blipFill>
        <p:spPr>
          <a:xfrm>
            <a:off x="5162400" y="2705040"/>
            <a:ext cx="33912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C:\Users\Vlada\Desktop\mvo 1.jpg"/>
          <p:cNvPicPr/>
          <p:nvPr/>
        </p:nvPicPr>
        <p:blipFill>
          <a:blip r:embed="rId2"/>
          <a:stretch/>
        </p:blipFill>
        <p:spPr>
          <a:xfrm>
            <a:off x="457200" y="2685960"/>
            <a:ext cx="39639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User</cp:lastModifiedBy>
  <dcterms:modified xsi:type="dcterms:W3CDTF">2020-02-10T15:46:24Z</dcterms:modified>
  <cp:revision>2019</cp:revision>
  <dc:subject/>
  <dc:title>NAZIV PREDAVANJA</dc:title>
</cp:coreProperties>
</file>